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7D54-9E15-4C4A-8A88-27544E4DF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F7FF-3640-4C3C-9CD4-E63B91079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0043-406C-4347-9969-D04227A4C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39EF-F93D-43A3-97DE-46118391A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FD9F4-463A-40A5-89FE-4D40D0A4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F8BA1-B9AA-4ED7-B946-20B0DBDF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6E71A-932A-43EF-BFCD-767EA27D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C6D16-CFA8-4438-80B3-523C0C64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5628D-19A3-41C4-BFE6-BDB4B272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2A14F-1D41-4268-8FBC-96494401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52C24-3D78-43A5-8966-BB0F48E9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FC83-3921-4F4D-AF53-31F9B1F78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120CE-985C-480E-9DB4-328EB35D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B0F26-0578-465D-9D6D-5876EFD2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9D076-77EA-4A8D-9E84-40E8EC87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E476B-E407-4FB0-B688-13D88712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2797B-BE56-4672-B003-C58D366C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E468-5108-48C8-994B-F0B1DDF38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9C9E-C308-4D13-8F6F-DCBE36F7D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7527-50AD-42D9-9C18-0117439D4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BC4F-0CC4-452E-B449-F53C2B002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45F1-3C0A-40AE-B35B-17F749E46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503D-37C1-4716-8636-2F6558064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418F3-2045-4E7C-BEE6-B7878E8F3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A221-3C6C-4BC1-9A67-EEE9B29962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8381880" y="6248520"/>
            <a:ext cx="609840" cy="457200"/>
            <a:chOff x="8381880" y="6248520"/>
            <a:chExt cx="609840" cy="457200"/>
          </a:xfrm>
        </p:grpSpPr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381880" y="624852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PlaceHolder 4"/>
            <p:cNvSpPr>
              <a:spLocks noGrp="1"/>
            </p:cNvSpPr>
            <p:nvPr>
              <p:ph type="ftr" idx="2"/>
            </p:nvPr>
          </p:nvSpPr>
          <p:spPr>
            <a:xfrm>
              <a:off x="8381880" y="624852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lstStyle>
              <a:lvl1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  <a:defRPr b="0" lang="en-US" sz="1400" spc="-1" strike="noStrike">
                  <a:solidFill>
                    <a:srgbClr val="000000"/>
                  </a:solidFill>
                  <a:latin typeface="Tahoma"/>
                </a:defRPr>
              </a:lvl1pPr>
            </a:lstStyle>
            <a:p>
              <a: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828800" y="2438280"/>
            <a:ext cx="6172200" cy="4648320"/>
            <a:chOff x="1828800" y="2438280"/>
            <a:chExt cx="6172200" cy="4648320"/>
          </a:xfrm>
        </p:grpSpPr>
        <p:pic>
          <p:nvPicPr>
            <p:cNvPr id="44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828800" y="2438280"/>
              <a:ext cx="61722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828800" y="2438280"/>
              <a:ext cx="617220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2EA2-2B16-4BA5-9F9A-7616AEA891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für Anfäng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os Communication Congr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rlin, 27.-29. Dezember 199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oder 100 Mbit/s: Gleiches Protok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-Typ: Ethernet-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Byte Adressen, weltweit eindeutig (in der Hardware festgeleg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MA/CD, “Shared media”, nicht kollisionsfrei, stochastisches Ver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erdings auch “switched Ethernet”, kollisionsfrei (gleiches Protoko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E7A4-ABD7-4CED-93A6-0217E48EB5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92280" y="1606680"/>
            <a:ext cx="7302600" cy="3788640"/>
            <a:chOff x="692280" y="1606680"/>
            <a:chExt cx="7302600" cy="3788640"/>
          </a:xfrm>
        </p:grpSpPr>
        <p:sp>
          <p:nvSpPr>
            <p:cNvPr id="163" name=""/>
            <p:cNvSpPr/>
            <p:nvPr/>
          </p:nvSpPr>
          <p:spPr>
            <a:xfrm>
              <a:off x="6922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0760" y="4937040"/>
              <a:ext cx="587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 Byte Zieladresse (destination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2362320"/>
              <a:ext cx="0" cy="274320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5105520"/>
              <a:ext cx="152388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49480" y="1606680"/>
            <a:ext cx="5829120" cy="3255480"/>
            <a:chOff x="1149480" y="1606680"/>
            <a:chExt cx="5829120" cy="3255480"/>
          </a:xfrm>
        </p:grpSpPr>
        <p:sp>
          <p:nvSpPr>
            <p:cNvPr id="168" name=""/>
            <p:cNvSpPr/>
            <p:nvPr/>
          </p:nvSpPr>
          <p:spPr>
            <a:xfrm>
              <a:off x="11494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5840" y="4403880"/>
              <a:ext cx="4712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Byte Quelladresse (source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2209680"/>
              <a:ext cx="0" cy="24386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4648320"/>
              <a:ext cx="99072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6680" y="1606680"/>
            <a:ext cx="6528960" cy="2721960"/>
            <a:chOff x="1606680" y="1606680"/>
            <a:chExt cx="6528960" cy="2721960"/>
          </a:xfrm>
        </p:grpSpPr>
        <p:sp>
          <p:nvSpPr>
            <p:cNvPr id="173" name=""/>
            <p:cNvSpPr/>
            <p:nvPr/>
          </p:nvSpPr>
          <p:spPr>
            <a:xfrm>
              <a:off x="1606680" y="1606680"/>
              <a:ext cx="21564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4560" y="3870360"/>
              <a:ext cx="585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Typ: 0800=IP,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806=ARP, 0835=R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520" y="2209680"/>
              <a:ext cx="0" cy="1905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676160" y="4114800"/>
              <a:ext cx="6094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11240" y="1600200"/>
            <a:ext cx="6738840" cy="1509120"/>
            <a:chOff x="1911240" y="1600200"/>
            <a:chExt cx="6738840" cy="1509120"/>
          </a:xfrm>
        </p:grpSpPr>
        <p:sp>
          <p:nvSpPr>
            <p:cNvPr id="178" name=""/>
            <p:cNvSpPr/>
            <p:nvPr/>
          </p:nvSpPr>
          <p:spPr>
            <a:xfrm>
              <a:off x="1911240" y="1606680"/>
              <a:ext cx="661680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1600200"/>
              <a:ext cx="533520" cy="45720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114800" y="2057400"/>
              <a:ext cx="4572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2057400"/>
              <a:ext cx="533520" cy="30492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48560" y="2651040"/>
              <a:ext cx="640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6 - 1500 Bytes Nutzdaten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MTU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1500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1981080"/>
              <a:ext cx="0" cy="8384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14000" y="1606680"/>
            <a:ext cx="6618960" cy="2112480"/>
            <a:chOff x="2214000" y="1606680"/>
            <a:chExt cx="6618960" cy="2112480"/>
          </a:xfrm>
        </p:grpSpPr>
        <p:sp>
          <p:nvSpPr>
            <p:cNvPr id="185" name=""/>
            <p:cNvSpPr/>
            <p:nvPr/>
          </p:nvSpPr>
          <p:spPr>
            <a:xfrm>
              <a:off x="8616960" y="1606680"/>
              <a:ext cx="216000" cy="749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14000" y="3260880"/>
              <a:ext cx="374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CRC (Prüfsumm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3505320"/>
              <a:ext cx="3048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86800" y="2209320"/>
              <a:ext cx="0" cy="12956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6560" y="5516640"/>
            <a:ext cx="712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 Datenteil muß notfalls auf 46 Bytes aufgefül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(RFC89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3E08-1370-44C6-AD48-AA7B12E730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Ethernet-Kab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2, 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G58 Kabel, 50 O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-Verkabelung, T-Stüc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bel muß mit je 50 Ohm terminiert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85 m /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T us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drillte Pa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568 Cat.3/4/5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dernpaare (2 genutz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rn-Verkabelung vo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. 90+10 m/Str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hlertolera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und 10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083D-15E1-4D28-A9EE-D7F882C708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762120" y="3276720"/>
            <a:ext cx="4343400" cy="1066680"/>
            <a:chOff x="762120" y="3276720"/>
            <a:chExt cx="4343400" cy="1066680"/>
          </a:xfrm>
        </p:grpSpPr>
        <p:sp>
          <p:nvSpPr>
            <p:cNvPr id="195" name=""/>
            <p:cNvSpPr/>
            <p:nvPr/>
          </p:nvSpPr>
          <p:spPr>
            <a:xfrm>
              <a:off x="762120" y="3276720"/>
              <a:ext cx="609480" cy="1066680"/>
            </a:xfrm>
            <a:prstGeom prst="ellipse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6680" y="3276720"/>
              <a:ext cx="396252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4343400"/>
              <a:ext cx="403884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267080" y="2743200"/>
            <a:ext cx="4565520" cy="2718000"/>
            <a:chOff x="4267080" y="2743200"/>
            <a:chExt cx="4565520" cy="2718000"/>
          </a:xfrm>
        </p:grpSpPr>
        <p:sp>
          <p:nvSpPr>
            <p:cNvPr id="199" name=""/>
            <p:cNvSpPr/>
            <p:nvPr/>
          </p:nvSpPr>
          <p:spPr>
            <a:xfrm flipH="1">
              <a:off x="4267080" y="3733560"/>
              <a:ext cx="977760" cy="292320"/>
            </a:xfrm>
            <a:prstGeom prst="parallelogram">
              <a:avLst>
                <a:gd name="adj" fmla="val 83605"/>
              </a:avLst>
            </a:prstGeom>
            <a:solidFill>
              <a:srgbClr val="eaeaea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3848040" y="3695760"/>
              <a:ext cx="2425680" cy="520560"/>
            </a:xfrm>
            <a:prstGeom prst="parallelogram">
              <a:avLst>
                <a:gd name="adj" fmla="val 76390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3760" y="3124080"/>
              <a:ext cx="303552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2560" y="3276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2560" y="3504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560" y="3733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560" y="39621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560" y="41907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560" y="4419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560" y="4647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2560" y="4876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59560" y="3195360"/>
              <a:ext cx="473040" cy="22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799880" y="2743200"/>
              <a:ext cx="3568680" cy="368280"/>
            </a:xfrm>
            <a:prstGeom prst="parallelogram">
              <a:avLst>
                <a:gd name="adj" fmla="val 13561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8960" y="1736640"/>
            <a:ext cx="300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A 568A-Beleg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14240" y="2895120"/>
            <a:ext cx="4648680" cy="686160"/>
            <a:chOff x="2514240" y="2895120"/>
            <a:chExt cx="4648680" cy="686160"/>
          </a:xfrm>
        </p:grpSpPr>
        <p:sp>
          <p:nvSpPr>
            <p:cNvPr id="214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419360" y="2895480"/>
              <a:ext cx="6094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419360" y="2895120"/>
              <a:ext cx="533160" cy="38124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876920" y="3581280"/>
              <a:ext cx="228600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4495320" y="3200400"/>
              <a:ext cx="381240" cy="380880"/>
            </a:xfrm>
            <a:prstGeom prst="line">
              <a:avLst/>
            </a:prstGeom>
            <a:ln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14240" y="320040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62600" y="2590920"/>
            <a:ext cx="211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514240" y="3962520"/>
            <a:ext cx="4648320" cy="380880"/>
            <a:chOff x="2514240" y="3962520"/>
            <a:chExt cx="4648320" cy="380880"/>
          </a:xfrm>
        </p:grpSpPr>
        <p:sp>
          <p:nvSpPr>
            <p:cNvPr id="225" name=""/>
            <p:cNvSpPr/>
            <p:nvPr/>
          </p:nvSpPr>
          <p:spPr>
            <a:xfrm>
              <a:off x="2514600" y="396252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647960" y="40384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5680" y="3962520"/>
              <a:ext cx="152640" cy="75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507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14240" y="3580920"/>
            <a:ext cx="4648680" cy="1143360"/>
            <a:chOff x="2514240" y="3580920"/>
            <a:chExt cx="4648680" cy="1143360"/>
          </a:xfrm>
        </p:grpSpPr>
        <p:sp>
          <p:nvSpPr>
            <p:cNvPr id="235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5076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24280" y="4495680"/>
              <a:ext cx="243864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5320" y="4495680"/>
              <a:ext cx="228600" cy="228600"/>
            </a:xfrm>
            <a:prstGeom prst="line">
              <a:avLst/>
            </a:prstGeom>
            <a:ln w="507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514240" y="4724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514240" y="4724280"/>
            <a:ext cx="4648680" cy="762120"/>
            <a:chOff x="2514240" y="4724280"/>
            <a:chExt cx="4648680" cy="762120"/>
          </a:xfrm>
        </p:grpSpPr>
        <p:sp>
          <p:nvSpPr>
            <p:cNvPr id="245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952520" y="4952880"/>
              <a:ext cx="2210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495680" y="4952880"/>
              <a:ext cx="457200" cy="53352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514240" y="548640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RJ45-Steck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1295280"/>
            <a:ext cx="3962520" cy="1600200"/>
          </a:xfrm>
          <a:prstGeom prst="wedgeRoundRectCallout">
            <a:avLst>
              <a:gd name="adj1" fmla="val -53805"/>
              <a:gd name="adj2" fmla="val 109125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J45-Steck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ick auf die Kontakt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 Rastfeder zeigt nach un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9836-C106-49E8-A698-9804435CE0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Internet Protoc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vermittel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 bit Adressen, meist als 1.2.3.4 (dezimal)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B132-03A1-4AD3-BC66-4AE32BE1CB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Adre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dresse gehört jeweils zu einem Interface. D.h. ein Rechner mit mehreren Netzwerkkarten hat auch mehrere Adress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ten zu groß für den nächsten Hop, werden sie zerlegt (fragmentie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hr Details spä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0C2E-D809-4E5B-8D53-FCA6C5C2E1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378600" y="5715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 Byte Header, plus Op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92280" y="2062080"/>
            <a:ext cx="7226280" cy="2966760"/>
            <a:chOff x="692280" y="2062080"/>
            <a:chExt cx="7226280" cy="2966760"/>
          </a:xfrm>
        </p:grpSpPr>
        <p:sp>
          <p:nvSpPr>
            <p:cNvPr id="262" name=""/>
            <p:cNvSpPr/>
            <p:nvPr/>
          </p:nvSpPr>
          <p:spPr>
            <a:xfrm>
              <a:off x="6922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66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21080" y="2062080"/>
              <a:ext cx="17398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9880" y="206208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2280" y="266364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49880" y="2663640"/>
              <a:ext cx="52056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22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10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49880" y="3269880"/>
              <a:ext cx="35686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959360" y="2644560"/>
              <a:ext cx="2959200" cy="550800"/>
              <a:chOff x="4959360" y="2644560"/>
              <a:chExt cx="2959200" cy="550800"/>
            </a:xfrm>
          </p:grpSpPr>
          <p:sp>
            <p:nvSpPr>
              <p:cNvPr id="272" name=""/>
              <p:cNvSpPr/>
              <p:nvPr/>
            </p:nvSpPr>
            <p:spPr>
              <a:xfrm>
                <a:off x="4959360" y="2663640"/>
                <a:ext cx="2959200" cy="5317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41960" y="2644560"/>
                <a:ext cx="183960" cy="363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92280" y="449712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2280" y="388764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4840" y="2038320"/>
            <a:ext cx="895320" cy="544680"/>
            <a:chOff x="654840" y="2038320"/>
            <a:chExt cx="895320" cy="544680"/>
          </a:xfrm>
        </p:grpSpPr>
        <p:sp>
          <p:nvSpPr>
            <p:cNvPr id="277" name=""/>
            <p:cNvSpPr/>
            <p:nvPr/>
          </p:nvSpPr>
          <p:spPr>
            <a:xfrm>
              <a:off x="692280" y="2057400"/>
              <a:ext cx="825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4840" y="2038320"/>
              <a:ext cx="89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499400" y="2038320"/>
            <a:ext cx="1014120" cy="528840"/>
            <a:chOff x="1499400" y="2038320"/>
            <a:chExt cx="1014120" cy="528840"/>
          </a:xfrm>
        </p:grpSpPr>
        <p:sp>
          <p:nvSpPr>
            <p:cNvPr id="280" name=""/>
            <p:cNvSpPr/>
            <p:nvPr/>
          </p:nvSpPr>
          <p:spPr>
            <a:xfrm>
              <a:off x="1606680" y="2057400"/>
              <a:ext cx="825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99400" y="203832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521080" y="2038320"/>
            <a:ext cx="1739880" cy="528840"/>
            <a:chOff x="2521080" y="2038320"/>
            <a:chExt cx="1739880" cy="528840"/>
          </a:xfrm>
        </p:grpSpPr>
        <p:sp>
          <p:nvSpPr>
            <p:cNvPr id="283" name=""/>
            <p:cNvSpPr/>
            <p:nvPr/>
          </p:nvSpPr>
          <p:spPr>
            <a:xfrm>
              <a:off x="2521080" y="2057400"/>
              <a:ext cx="17398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67560" y="2038320"/>
              <a:ext cx="759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349880" y="2038320"/>
            <a:ext cx="3686400" cy="544680"/>
            <a:chOff x="4349880" y="2038320"/>
            <a:chExt cx="3686400" cy="544680"/>
          </a:xfrm>
        </p:grpSpPr>
        <p:sp>
          <p:nvSpPr>
            <p:cNvPr id="286" name=""/>
            <p:cNvSpPr/>
            <p:nvPr/>
          </p:nvSpPr>
          <p:spPr>
            <a:xfrm>
              <a:off x="4349880" y="2057400"/>
              <a:ext cx="35686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1680" y="2038320"/>
              <a:ext cx="3324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esamtlänge (in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06880" y="2666880"/>
            <a:ext cx="3769920" cy="544320"/>
            <a:chOff x="506880" y="2666880"/>
            <a:chExt cx="3769920" cy="544320"/>
          </a:xfrm>
        </p:grpSpPr>
        <p:sp>
          <p:nvSpPr>
            <p:cNvPr id="289" name=""/>
            <p:cNvSpPr/>
            <p:nvPr/>
          </p:nvSpPr>
          <p:spPr>
            <a:xfrm>
              <a:off x="708120" y="26859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6880" y="2666880"/>
              <a:ext cx="3580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ufende Nr. des Pa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215240" y="2647800"/>
            <a:ext cx="3695400" cy="544320"/>
            <a:chOff x="4215240" y="2647800"/>
            <a:chExt cx="3695400" cy="544320"/>
          </a:xfrm>
        </p:grpSpPr>
        <p:sp>
          <p:nvSpPr>
            <p:cNvPr id="292" name=""/>
            <p:cNvSpPr/>
            <p:nvPr/>
          </p:nvSpPr>
          <p:spPr>
            <a:xfrm>
              <a:off x="4341960" y="2666880"/>
              <a:ext cx="5205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5240" y="2647800"/>
              <a:ext cx="872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951440" y="2647800"/>
              <a:ext cx="2959200" cy="544320"/>
              <a:chOff x="4951440" y="2647800"/>
              <a:chExt cx="2959200" cy="544320"/>
            </a:xfrm>
          </p:grpSpPr>
          <p:sp>
            <p:nvSpPr>
              <p:cNvPr id="295" name=""/>
              <p:cNvSpPr/>
              <p:nvPr/>
            </p:nvSpPr>
            <p:spPr>
              <a:xfrm>
                <a:off x="4951440" y="2666880"/>
                <a:ext cx="295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49080" y="2647800"/>
                <a:ext cx="255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ragment-Off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622800" y="3257640"/>
            <a:ext cx="1829520" cy="543960"/>
            <a:chOff x="622800" y="3257640"/>
            <a:chExt cx="1829520" cy="543960"/>
          </a:xfrm>
        </p:grpSpPr>
        <p:sp>
          <p:nvSpPr>
            <p:cNvPr id="298" name=""/>
            <p:cNvSpPr/>
            <p:nvPr/>
          </p:nvSpPr>
          <p:spPr>
            <a:xfrm>
              <a:off x="6843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800" y="3257640"/>
              <a:ext cx="182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ime to l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513160" y="3257640"/>
            <a:ext cx="1739880" cy="543960"/>
            <a:chOff x="2513160" y="3257640"/>
            <a:chExt cx="1739880" cy="543960"/>
          </a:xfrm>
        </p:grpSpPr>
        <p:sp>
          <p:nvSpPr>
            <p:cNvPr id="301" name=""/>
            <p:cNvSpPr/>
            <p:nvPr/>
          </p:nvSpPr>
          <p:spPr>
            <a:xfrm>
              <a:off x="25131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5000" y="3257640"/>
              <a:ext cx="148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toko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229640" y="3257640"/>
            <a:ext cx="3700800" cy="543960"/>
            <a:chOff x="4229640" y="3257640"/>
            <a:chExt cx="3700800" cy="543960"/>
          </a:xfrm>
        </p:grpSpPr>
        <p:sp>
          <p:nvSpPr>
            <p:cNvPr id="304" name=""/>
            <p:cNvSpPr/>
            <p:nvPr/>
          </p:nvSpPr>
          <p:spPr>
            <a:xfrm>
              <a:off x="4341960" y="32763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9640" y="3257640"/>
              <a:ext cx="370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üfsumme ü. d.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92280" y="388944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ll-IP-Adresse 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2280" y="449892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el-IP-Adresse (dest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334120"/>
            <a:ext cx="2590920" cy="1143000"/>
          </a:xfrm>
          <a:prstGeom prst="wedgeRoundRectCallout">
            <a:avLst>
              <a:gd name="adj1" fmla="val -19731"/>
              <a:gd name="adj2" fmla="val -315277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s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 Protoko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5334120"/>
            <a:ext cx="2590920" cy="1143000"/>
          </a:xfrm>
          <a:prstGeom prst="wedgeRoundRectCallout">
            <a:avLst>
              <a:gd name="adj1" fmla="val -87254"/>
              <a:gd name="adj2" fmla="val -310833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änge des Hea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5334120"/>
            <a:ext cx="2819520" cy="1066680"/>
          </a:xfrm>
          <a:prstGeom prst="wedgeRoundRectCallout">
            <a:avLst>
              <a:gd name="adj1" fmla="val -144314"/>
              <a:gd name="adj2" fmla="val -325000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51126-5814-40C2-9440-BD627E9A93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net Control Message Protoc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Status- und Fehlermel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nutzt ICMP echo request/rep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il von IP (network layer), nutzt aber IP-Pakete zur Datenübertrag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DAEF-1CE4-40E5-B411-606A975CFB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ddress Resolution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r Zustellung von IP-Paketen im LAN wird die physische (z.B. Ethernet-) Adresse benötig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-Adressen (48 bit) sind weltweit eindeutig in der Hardware “eingebran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sche IP-Adressen (32 bit) sind vom Netzverwalter festgele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P erlaubt Umsetz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BDA7-BF15-402B-B7B6-B856B6A726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5120" y="1736640"/>
            <a:ext cx="119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33880" y="1736640"/>
            <a:ext cx="101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905120" y="2041560"/>
            <a:ext cx="5486400" cy="824040"/>
            <a:chOff x="1905120" y="2041560"/>
            <a:chExt cx="5486400" cy="824040"/>
          </a:xfrm>
        </p:grpSpPr>
        <p:sp>
          <p:nvSpPr>
            <p:cNvPr id="321" name=""/>
            <p:cNvSpPr/>
            <p:nvPr/>
          </p:nvSpPr>
          <p:spPr>
            <a:xfrm>
              <a:off x="1905120" y="24382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49040" y="2041560"/>
              <a:ext cx="494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quest (broad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r hat hier IP-Adresse 1.2.3.4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50680" y="3641760"/>
            <a:ext cx="5868000" cy="1189800"/>
            <a:chOff x="1750680" y="3641760"/>
            <a:chExt cx="5868000" cy="1189800"/>
          </a:xfrm>
        </p:grpSpPr>
        <p:sp>
          <p:nvSpPr>
            <p:cNvPr id="324" name=""/>
            <p:cNvSpPr/>
            <p:nvPr/>
          </p:nvSpPr>
          <p:spPr>
            <a:xfrm>
              <a:off x="1905120" y="4038480"/>
              <a:ext cx="533376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50680" y="3641760"/>
              <a:ext cx="5868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ply (uni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habe IP-Adresse 1.2.3.4, und m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-Adresse ist a.b.c.d.e.f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3880" y="4268880"/>
            <a:ext cx="3041280" cy="1973160"/>
            <a:chOff x="533880" y="4268880"/>
            <a:chExt cx="3041280" cy="1973160"/>
          </a:xfrm>
        </p:grpSpPr>
        <p:sp>
          <p:nvSpPr>
            <p:cNvPr id="327" name=""/>
            <p:cNvSpPr/>
            <p:nvPr/>
          </p:nvSpPr>
          <p:spPr>
            <a:xfrm>
              <a:off x="107316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7240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880" y="4268880"/>
              <a:ext cx="13708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97440" y="2440080"/>
            <a:ext cx="3043080" cy="5486040"/>
            <a:chOff x="5797440" y="2440080"/>
            <a:chExt cx="3043080" cy="5486040"/>
          </a:xfrm>
        </p:grpSpPr>
        <p:sp>
          <p:nvSpPr>
            <p:cNvPr id="331" name=""/>
            <p:cNvSpPr/>
            <p:nvPr/>
          </p:nvSpPr>
          <p:spPr>
            <a:xfrm>
              <a:off x="579744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668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9280" y="2440080"/>
              <a:ext cx="1371240" cy="548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9822-D48C-4083-81D2-874279C495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2D0A-CE94-4108-B153-1056B81E3C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-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elstes Internet-Protokoll auf Transportebene (Ebene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 - “fire and forge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: z.B. DNS, N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sätzlich zum 20 Byte IP-Header noch zwei 16 bit Portnummern, 16 bit Länge und eine 16 bit Prüfsum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A7D7-E165-4A34-BD4C-70DE88CE86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92280" y="1758960"/>
            <a:ext cx="7226280" cy="596880"/>
            <a:chOff x="692280" y="1758960"/>
            <a:chExt cx="7226280" cy="596880"/>
          </a:xfrm>
        </p:grpSpPr>
        <p:sp>
          <p:nvSpPr>
            <p:cNvPr id="338" name=""/>
            <p:cNvSpPr/>
            <p:nvPr/>
          </p:nvSpPr>
          <p:spPr>
            <a:xfrm>
              <a:off x="692280" y="1758960"/>
              <a:ext cx="722628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2800" y="1828800"/>
              <a:ext cx="4612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92280" y="2444760"/>
            <a:ext cx="7226280" cy="2425680"/>
            <a:chOff x="692280" y="2444760"/>
            <a:chExt cx="7226280" cy="2425680"/>
          </a:xfrm>
        </p:grpSpPr>
        <p:sp>
          <p:nvSpPr>
            <p:cNvPr id="341" name=""/>
            <p:cNvSpPr/>
            <p:nvPr/>
          </p:nvSpPr>
          <p:spPr>
            <a:xfrm>
              <a:off x="6922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98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2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98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280" y="3968640"/>
              <a:ext cx="7226280" cy="901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81120" y="2422440"/>
            <a:ext cx="3571920" cy="695520"/>
            <a:chOff x="681120" y="2422440"/>
            <a:chExt cx="3571920" cy="695520"/>
          </a:xfrm>
        </p:grpSpPr>
        <p:sp>
          <p:nvSpPr>
            <p:cNvPr id="347" name=""/>
            <p:cNvSpPr/>
            <p:nvPr/>
          </p:nvSpPr>
          <p:spPr>
            <a:xfrm>
              <a:off x="681120" y="244476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78400" y="2422440"/>
              <a:ext cx="3086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ource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208400" y="2438280"/>
            <a:ext cx="3752640" cy="695520"/>
            <a:chOff x="4208400" y="2438280"/>
            <a:chExt cx="3752640" cy="695520"/>
          </a:xfrm>
        </p:grpSpPr>
        <p:sp>
          <p:nvSpPr>
            <p:cNvPr id="350" name=""/>
            <p:cNvSpPr/>
            <p:nvPr/>
          </p:nvSpPr>
          <p:spPr>
            <a:xfrm>
              <a:off x="4343400" y="246060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08400" y="2438280"/>
              <a:ext cx="375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estination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2280" y="3184560"/>
            <a:ext cx="3571920" cy="695160"/>
            <a:chOff x="692280" y="3184560"/>
            <a:chExt cx="3571920" cy="695160"/>
          </a:xfrm>
        </p:grpSpPr>
        <p:sp>
          <p:nvSpPr>
            <p:cNvPr id="353" name=""/>
            <p:cNvSpPr/>
            <p:nvPr/>
          </p:nvSpPr>
          <p:spPr>
            <a:xfrm>
              <a:off x="69228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46560" y="3184560"/>
              <a:ext cx="177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Lä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338720" y="3184560"/>
            <a:ext cx="3571920" cy="695160"/>
            <a:chOff x="4338720" y="3184560"/>
            <a:chExt cx="3571920" cy="695160"/>
          </a:xfrm>
        </p:grpSpPr>
        <p:sp>
          <p:nvSpPr>
            <p:cNvPr id="356" name=""/>
            <p:cNvSpPr/>
            <p:nvPr/>
          </p:nvSpPr>
          <p:spPr>
            <a:xfrm>
              <a:off x="433872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96280" y="3184560"/>
              <a:ext cx="2576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Prüfsu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81120" y="3946680"/>
            <a:ext cx="7237440" cy="923760"/>
            <a:chOff x="681120" y="3946680"/>
            <a:chExt cx="7237440" cy="923760"/>
          </a:xfrm>
        </p:grpSpPr>
        <p:sp>
          <p:nvSpPr>
            <p:cNvPr id="359" name=""/>
            <p:cNvSpPr/>
            <p:nvPr/>
          </p:nvSpPr>
          <p:spPr>
            <a:xfrm>
              <a:off x="681120" y="3973680"/>
              <a:ext cx="7237440" cy="8967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63840" y="3946680"/>
              <a:ext cx="1687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1752480"/>
            <a:ext cx="7226280" cy="596880"/>
            <a:chOff x="685800" y="1752480"/>
            <a:chExt cx="7226280" cy="596880"/>
          </a:xfrm>
        </p:grpSpPr>
        <p:sp>
          <p:nvSpPr>
            <p:cNvPr id="363" name=""/>
            <p:cNvSpPr/>
            <p:nvPr/>
          </p:nvSpPr>
          <p:spPr>
            <a:xfrm>
              <a:off x="685800" y="1752480"/>
              <a:ext cx="722628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320" y="1822320"/>
              <a:ext cx="4612320" cy="458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32A1-7211-4E67-929F-9B0B125D16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 und TCP verwenden “Ports” als Erweiterung der IP-Adres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Datenübertragung ist durch 4 Adressen gekennzeich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-Adresse, Quel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el-Adresse, Zie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ts beschreiben einen Prozess auf einem Rech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BC0B2-77C9-479E-9281-688C4B5AE5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orientiert (wie Telef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icherte Verbindun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s kommt an, in der richtigen Reihenfolge, und nicht doppe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Internet-Anwendungen verwenden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taus komplexer als U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Modell üb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ucht, Netzüberlast zu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B0ECA-884E-4697-AF48-9E32C10DA3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92280" y="1758960"/>
            <a:ext cx="7226280" cy="44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92280" y="2292480"/>
            <a:ext cx="7226280" cy="3797280"/>
            <a:chOff x="692280" y="2292480"/>
            <a:chExt cx="7226280" cy="3797280"/>
          </a:xfrm>
        </p:grpSpPr>
        <p:sp>
          <p:nvSpPr>
            <p:cNvPr id="371" name=""/>
            <p:cNvSpPr/>
            <p:nvPr/>
          </p:nvSpPr>
          <p:spPr>
            <a:xfrm>
              <a:off x="6922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498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280" y="282564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2280" y="33591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98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22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2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98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2280" y="49593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2280" y="5492880"/>
              <a:ext cx="7226280" cy="596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2280" y="2270160"/>
            <a:ext cx="7270560" cy="466560"/>
            <a:chOff x="692280" y="2270160"/>
            <a:chExt cx="7270560" cy="466560"/>
          </a:xfrm>
        </p:grpSpPr>
        <p:grpSp>
          <p:nvGrpSpPr>
            <p:cNvPr id="382" name=""/>
            <p:cNvGrpSpPr/>
            <p:nvPr/>
          </p:nvGrpSpPr>
          <p:grpSpPr>
            <a:xfrm>
              <a:off x="692280" y="2270160"/>
              <a:ext cx="3571920" cy="466560"/>
              <a:chOff x="692280" y="2270160"/>
              <a:chExt cx="3571920" cy="466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9228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9560" y="2270160"/>
                <a:ext cx="3086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ource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210200" y="2270160"/>
              <a:ext cx="3752640" cy="466560"/>
              <a:chOff x="4210200" y="2270160"/>
              <a:chExt cx="3752640" cy="466560"/>
            </a:xfrm>
          </p:grpSpPr>
          <p:sp>
            <p:nvSpPr>
              <p:cNvPr id="386" name=""/>
              <p:cNvSpPr/>
              <p:nvPr/>
            </p:nvSpPr>
            <p:spPr>
              <a:xfrm>
                <a:off x="434484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10200" y="2270160"/>
                <a:ext cx="375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stination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692280" y="2803680"/>
            <a:ext cx="7226280" cy="466560"/>
            <a:chOff x="692280" y="2803680"/>
            <a:chExt cx="7226280" cy="466560"/>
          </a:xfrm>
        </p:grpSpPr>
        <p:sp>
          <p:nvSpPr>
            <p:cNvPr id="389" name=""/>
            <p:cNvSpPr/>
            <p:nvPr/>
          </p:nvSpPr>
          <p:spPr>
            <a:xfrm>
              <a:off x="692280" y="282096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08720" y="2803680"/>
              <a:ext cx="280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92280" y="3336840"/>
            <a:ext cx="7226280" cy="466920"/>
            <a:chOff x="692280" y="3336840"/>
            <a:chExt cx="7226280" cy="466920"/>
          </a:xfrm>
        </p:grpSpPr>
        <p:sp>
          <p:nvSpPr>
            <p:cNvPr id="392" name=""/>
            <p:cNvSpPr/>
            <p:nvPr/>
          </p:nvSpPr>
          <p:spPr>
            <a:xfrm>
              <a:off x="692280" y="33544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4040" y="3336840"/>
              <a:ext cx="408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nowledgemen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1880" y="3870360"/>
            <a:ext cx="1014120" cy="466560"/>
            <a:chOff x="551880" y="3870360"/>
            <a:chExt cx="1014120" cy="466560"/>
          </a:xfrm>
        </p:grpSpPr>
        <p:sp>
          <p:nvSpPr>
            <p:cNvPr id="395" name=""/>
            <p:cNvSpPr/>
            <p:nvPr/>
          </p:nvSpPr>
          <p:spPr>
            <a:xfrm>
              <a:off x="692280" y="3887640"/>
              <a:ext cx="74916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1880" y="387036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319400" y="3870360"/>
            <a:ext cx="1506240" cy="466560"/>
            <a:chOff x="1319400" y="3870360"/>
            <a:chExt cx="1506240" cy="466560"/>
          </a:xfrm>
        </p:grpSpPr>
        <p:sp>
          <p:nvSpPr>
            <p:cNvPr id="398" name=""/>
            <p:cNvSpPr/>
            <p:nvPr/>
          </p:nvSpPr>
          <p:spPr>
            <a:xfrm>
              <a:off x="1509840" y="3887640"/>
              <a:ext cx="115092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9400" y="3870360"/>
              <a:ext cx="1506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727360" y="3870360"/>
            <a:ext cx="1539720" cy="466560"/>
            <a:chOff x="2727360" y="3870360"/>
            <a:chExt cx="1539720" cy="466560"/>
          </a:xfrm>
        </p:grpSpPr>
        <p:grpSp>
          <p:nvGrpSpPr>
            <p:cNvPr id="401" name=""/>
            <p:cNvGrpSpPr/>
            <p:nvPr/>
          </p:nvGrpSpPr>
          <p:grpSpPr>
            <a:xfrm>
              <a:off x="2728800" y="3870360"/>
              <a:ext cx="1532160" cy="466560"/>
              <a:chOff x="2728800" y="3870360"/>
              <a:chExt cx="1532160" cy="466560"/>
            </a:xfrm>
          </p:grpSpPr>
          <p:sp>
            <p:nvSpPr>
              <p:cNvPr id="402" name=""/>
              <p:cNvSpPr/>
              <p:nvPr/>
            </p:nvSpPr>
            <p:spPr>
              <a:xfrm>
                <a:off x="2728800" y="3887640"/>
                <a:ext cx="153216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1240" y="3870360"/>
                <a:ext cx="244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727360" y="387036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349880" y="3870360"/>
            <a:ext cx="3568680" cy="466560"/>
            <a:chOff x="4349880" y="3870360"/>
            <a:chExt cx="3568680" cy="466560"/>
          </a:xfrm>
        </p:grpSpPr>
        <p:sp>
          <p:nvSpPr>
            <p:cNvPr id="406" name=""/>
            <p:cNvSpPr/>
            <p:nvPr/>
          </p:nvSpPr>
          <p:spPr>
            <a:xfrm>
              <a:off x="4349880" y="388764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27120" y="3870360"/>
              <a:ext cx="192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dow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92280" y="4403880"/>
            <a:ext cx="3568680" cy="466560"/>
            <a:chOff x="692280" y="4403880"/>
            <a:chExt cx="3568680" cy="466560"/>
          </a:xfrm>
        </p:grpSpPr>
        <p:sp>
          <p:nvSpPr>
            <p:cNvPr id="409" name=""/>
            <p:cNvSpPr/>
            <p:nvPr/>
          </p:nvSpPr>
          <p:spPr>
            <a:xfrm>
              <a:off x="6922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9320" y="4403880"/>
              <a:ext cx="224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349880" y="4403880"/>
            <a:ext cx="3568680" cy="466560"/>
            <a:chOff x="4349880" y="4403880"/>
            <a:chExt cx="3568680" cy="466560"/>
          </a:xfrm>
        </p:grpSpPr>
        <p:sp>
          <p:nvSpPr>
            <p:cNvPr id="412" name=""/>
            <p:cNvSpPr/>
            <p:nvPr/>
          </p:nvSpPr>
          <p:spPr>
            <a:xfrm>
              <a:off x="43498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45680" y="440388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rgent 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92280" y="4937040"/>
            <a:ext cx="7226280" cy="466920"/>
            <a:chOff x="692280" y="4937040"/>
            <a:chExt cx="7226280" cy="466920"/>
          </a:xfrm>
        </p:grpSpPr>
        <p:sp>
          <p:nvSpPr>
            <p:cNvPr id="415" name=""/>
            <p:cNvSpPr/>
            <p:nvPr/>
          </p:nvSpPr>
          <p:spPr>
            <a:xfrm>
              <a:off x="692280" y="49546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4360" y="4937040"/>
              <a:ext cx="436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ption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92280" y="5470560"/>
            <a:ext cx="7226280" cy="619200"/>
            <a:chOff x="692280" y="5470560"/>
            <a:chExt cx="7226280" cy="619200"/>
          </a:xfrm>
        </p:grpSpPr>
        <p:sp>
          <p:nvSpPr>
            <p:cNvPr id="418" name=""/>
            <p:cNvSpPr/>
            <p:nvPr/>
          </p:nvSpPr>
          <p:spPr>
            <a:xfrm>
              <a:off x="692280" y="5491080"/>
              <a:ext cx="7226280" cy="598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59120" y="5470560"/>
              <a:ext cx="451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85800" y="1676520"/>
            <a:ext cx="7226280" cy="824040"/>
            <a:chOff x="685800" y="1676520"/>
            <a:chExt cx="7226280" cy="824040"/>
          </a:xfrm>
        </p:grpSpPr>
        <p:sp>
          <p:nvSpPr>
            <p:cNvPr id="422" name=""/>
            <p:cNvSpPr/>
            <p:nvPr/>
          </p:nvSpPr>
          <p:spPr>
            <a:xfrm>
              <a:off x="685800" y="1676520"/>
              <a:ext cx="7226280" cy="527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8080" y="1676520"/>
              <a:ext cx="4513320" cy="824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280D-0EA4-4187-AAF4-FA1C5776E3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ce / Ack numb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ce numbe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mer des ersten Bytes in diesem Segment (Flags zählen m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nowledgement num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e Sequence number, die als nächste erwartet w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B05D-D58E-40DF-940E-D46A464EF5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Fla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G - urgent point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 - acknowledgement numb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H - Empfänger soll sofort verarbeiten (pus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T - Reset der Verbind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 - Verbindungsauf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 - Verbindungsab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56D2-C60D-48EA-96B6-7F565CE8475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Window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 siz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 Empfänger bestimmt, wieviel Daten er noch aufnehmen will (z.B. Puffergröß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nn der Empfänger (wieder) mehr Daten verarbeiten kann, sendet er ein “Window upda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Window size 0 kann nichts mehr gesendet werden, bis der Empfänger sein Window wieder öffnet (window upd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F29D-CA5E-4738-809D-76FF93469B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81080" y="2193840"/>
            <a:ext cx="5486400" cy="824040"/>
            <a:chOff x="1981080" y="2193840"/>
            <a:chExt cx="5486400" cy="824040"/>
          </a:xfrm>
        </p:grpSpPr>
        <p:sp>
          <p:nvSpPr>
            <p:cNvPr id="435" name=""/>
            <p:cNvSpPr/>
            <p:nvPr/>
          </p:nvSpPr>
          <p:spPr>
            <a:xfrm>
              <a:off x="1981080" y="259092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94120" y="2193840"/>
              <a:ext cx="481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981080" y="3413160"/>
            <a:ext cx="5472720" cy="824040"/>
            <a:chOff x="1981080" y="3413160"/>
            <a:chExt cx="5472720" cy="824040"/>
          </a:xfrm>
        </p:grpSpPr>
        <p:sp>
          <p:nvSpPr>
            <p:cNvPr id="438" name=""/>
            <p:cNvSpPr/>
            <p:nvPr/>
          </p:nvSpPr>
          <p:spPr>
            <a:xfrm>
              <a:off x="1981080" y="3809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6680" y="3413160"/>
              <a:ext cx="539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 + 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. 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981080" y="4632480"/>
            <a:ext cx="5486400" cy="824040"/>
            <a:chOff x="1981080" y="4632480"/>
            <a:chExt cx="5486400" cy="824040"/>
          </a:xfrm>
        </p:grpSpPr>
        <p:sp>
          <p:nvSpPr>
            <p:cNvPr id="441" name=""/>
            <p:cNvSpPr/>
            <p:nvPr/>
          </p:nvSpPr>
          <p:spPr>
            <a:xfrm>
              <a:off x="1981080" y="502920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79520" y="4632480"/>
              <a:ext cx="83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A2E0F-A5EF-4BCB-BE93-9D8F252369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981080" y="1812960"/>
            <a:ext cx="5486400" cy="824040"/>
            <a:chOff x="1981080" y="1812960"/>
            <a:chExt cx="5486400" cy="824040"/>
          </a:xfrm>
        </p:grpSpPr>
        <p:sp>
          <p:nvSpPr>
            <p:cNvPr id="449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16320" y="18129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52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70120" y="27273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981080" y="3641760"/>
            <a:ext cx="5486400" cy="824040"/>
            <a:chOff x="1981080" y="3641760"/>
            <a:chExt cx="5486400" cy="824040"/>
          </a:xfrm>
        </p:grpSpPr>
        <p:sp>
          <p:nvSpPr>
            <p:cNvPr id="455" name=""/>
            <p:cNvSpPr/>
            <p:nvPr/>
          </p:nvSpPr>
          <p:spPr>
            <a:xfrm>
              <a:off x="1981080" y="40384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6320" y="36417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981080" y="4556160"/>
            <a:ext cx="5334120" cy="824040"/>
            <a:chOff x="1981080" y="4556160"/>
            <a:chExt cx="5334120" cy="824040"/>
          </a:xfrm>
        </p:grpSpPr>
        <p:sp>
          <p:nvSpPr>
            <p:cNvPr id="458" name=""/>
            <p:cNvSpPr/>
            <p:nvPr/>
          </p:nvSpPr>
          <p:spPr>
            <a:xfrm>
              <a:off x="1981080" y="4952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70120" y="45561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 ste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20724-3BDE-4A6C-AF5D-42B6EDDAAB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-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wicklung seit 1983 (DARP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zentrale Verwal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 zentraler Knoten (im Gegensatz zu S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fallsicherheit als Designziel (DO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Paket-per-Pak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5E4C0-8271-4F86-BAC8-D0FD6DC076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406880" y="1812960"/>
            <a:ext cx="6194160" cy="824040"/>
            <a:chOff x="1406880" y="1812960"/>
            <a:chExt cx="6194160" cy="824040"/>
          </a:xfrm>
        </p:grpSpPr>
        <p:sp>
          <p:nvSpPr>
            <p:cNvPr id="466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06880" y="181296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69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99680" y="272736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660680" y="4175280"/>
            <a:ext cx="6194160" cy="824040"/>
            <a:chOff x="1660680" y="4175280"/>
            <a:chExt cx="6194160" cy="824040"/>
          </a:xfrm>
        </p:grpSpPr>
        <p:sp>
          <p:nvSpPr>
            <p:cNvPr id="472" name=""/>
            <p:cNvSpPr/>
            <p:nvPr/>
          </p:nvSpPr>
          <p:spPr>
            <a:xfrm>
              <a:off x="1981080" y="457200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60680" y="417528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981080" y="5089680"/>
            <a:ext cx="5486400" cy="824040"/>
            <a:chOff x="1981080" y="5089680"/>
            <a:chExt cx="5486400" cy="824040"/>
          </a:xfrm>
        </p:grpSpPr>
        <p:sp>
          <p:nvSpPr>
            <p:cNvPr id="475" name=""/>
            <p:cNvSpPr/>
            <p:nvPr/>
          </p:nvSpPr>
          <p:spPr>
            <a:xfrm>
              <a:off x="1981080" y="548640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45520" y="508968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b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0595-AF00-4A03-832D-DAF5C893BB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5151-6D6C-4E2F-8E42-DA94CE1446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-Adressen sind 32 bit organisie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Class-A, Class-B und Class-C Netze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se unterscheiden sich durch die Netzmaske, die angibt, welcher Teil der Adresse das Netz und welcher den Rechner innerhalb des Netzes bezeich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Entscheidungen werden nur nach dem Netz-Teil der Adresse getroff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B49E-72A5-4DAF-8771-A13AEE95DCC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723240" y="1682640"/>
            <a:ext cx="8033400" cy="596880"/>
            <a:chOff x="723240" y="1682640"/>
            <a:chExt cx="8033400" cy="596880"/>
          </a:xfrm>
        </p:grpSpPr>
        <p:sp>
          <p:nvSpPr>
            <p:cNvPr id="483" name=""/>
            <p:cNvSpPr/>
            <p:nvPr/>
          </p:nvSpPr>
          <p:spPr>
            <a:xfrm>
              <a:off x="723240" y="1736640"/>
              <a:ext cx="1193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39840" y="168264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1636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92880" y="168264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6904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20000" y="2374920"/>
            <a:ext cx="8036640" cy="596880"/>
            <a:chOff x="720000" y="2374920"/>
            <a:chExt cx="8036640" cy="596880"/>
          </a:xfrm>
        </p:grpSpPr>
        <p:sp>
          <p:nvSpPr>
            <p:cNvPr id="489" name=""/>
            <p:cNvSpPr/>
            <p:nvPr/>
          </p:nvSpPr>
          <p:spPr>
            <a:xfrm>
              <a:off x="720000" y="2428920"/>
              <a:ext cx="119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984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636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92880" y="237492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69040" y="23749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24680" y="3060720"/>
            <a:ext cx="8031960" cy="596880"/>
            <a:chOff x="724680" y="3060720"/>
            <a:chExt cx="8031960" cy="596880"/>
          </a:xfrm>
        </p:grpSpPr>
        <p:sp>
          <p:nvSpPr>
            <p:cNvPr id="495" name=""/>
            <p:cNvSpPr/>
            <p:nvPr/>
          </p:nvSpPr>
          <p:spPr>
            <a:xfrm>
              <a:off x="724680" y="3114720"/>
              <a:ext cx="119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3984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636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92880" y="30607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69040" y="30607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5800" y="4495680"/>
            <a:ext cx="8077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gibt nur wenige Class B und noch weniger Class A Net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C-Netze, oder Blöcke davon, sind das Übl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Klassen wurden eingeführt, um die Tabellen in den Rou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ein zu 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ist möglich, die Netzmaske unabhängig von der Klasse frei z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zen, um ein Netz weiter zu unterteilen (subnet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18560" y="3733920"/>
            <a:ext cx="8044560" cy="596880"/>
            <a:chOff x="718560" y="3733920"/>
            <a:chExt cx="8044560" cy="596880"/>
          </a:xfrm>
        </p:grpSpPr>
        <p:sp>
          <p:nvSpPr>
            <p:cNvPr id="503" name=""/>
            <p:cNvSpPr/>
            <p:nvPr/>
          </p:nvSpPr>
          <p:spPr>
            <a:xfrm>
              <a:off x="718560" y="378792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bn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z.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4632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22840" y="37339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900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24680" y="3733920"/>
              <a:ext cx="8384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62920" y="3733920"/>
              <a:ext cx="76176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61625"/>
              <a:gd name="adj2" fmla="val 172398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89717"/>
              <a:gd name="adj2" fmla="val 286981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7944"/>
              <a:gd name="adj2" fmla="val 4143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14851"/>
              <a:gd name="adj2" fmla="val 5018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4E0B1-B901-4D9B-8209-D8F9BDEB1A3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 &amp; 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itweises 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etz-Teil der Adresse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Host-Teil der Adresse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4497-4FB8-4174-89DD-6D3CC3761F7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Ablau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fspalten der Zieladresse in Netz- und Host-Teil (durch AND mit der Netzmask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chsuchen der Routing-Tabelle nach dem errechneten Netzte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gefunden: An das in der Tabelle eingetragene Interface senden (next ho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st: Zur Default-Route, falls vorhan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onsten: ICMP “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F44D-6289-4FE0-A1F3-841149D520D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Protokolle dienen dazu, die Routingtabellen automatisch zu pflegen, wenn z.B. Wege unpassierbar we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verschiedene 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: Fuer LAN geeignet, vie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P, BGP: Fuer WAN / ASN zu AS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er UNIX in routed (nur RIP) bzw. gated implem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662A-E9D0-4B1F-AE90-DE9E761F428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Menschen sind numerische Adressen schwer merk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sorgt das DNS (Domain Name System) dafür, daß leichter merkbare Namen verwendet werden kö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server bilden eine weltweit verteilte Daten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034D-9944-4F78-84B0-AEE01F0159E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Namen sind hierarchisch organisier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.B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box.congress.ccc.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nfrage fragt n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? Deutschland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ni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c.de? Chaos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ress.ccc.de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ongres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at: 195.21.208.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614E-A115-41C9-A354-07482911FFF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s Netz an einer Stelle stark belastet ist (z.B. Übergang vom LAN ins langsamere WAN), gehen Pakete verlor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nun der Sender weiter mit voller Kapazität sendet, wird die Situation nur schlim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54ED2-433C-419A-8F3B-B7AE232E087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kations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: “RFC” (Request for Comment), numeriert - auf vielen Servern verfügbar, z.B. ftp://rtfm.mit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ch auf der Chaos-CD ent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 Gegensatz zu den ISO/OSI-Protokollen kein “offizieller” Standard, aber weithin akzep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B19B-ABEF-4362-9C25-478F543EB4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hat zwei Mechanismen zur Vermeidung von Überlast: Slow Start und Congestion Avoid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EB4A-34AD-4A7F-B044-970DBAFC144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low St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TCP-Verbindung beginnt nicht, mit der Window-Größe zu senden, die die Gegenseite annonciert, sondern sendet zunächst nur ein Seg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effektive Window-Groesse wird nun mit jedem eingetroffenen ACK um ein weiteres Segment erhöht, bis die Windowgröße erreicht 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909E-79CA-4CA8-8351-38F77159CB5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gestion Avoi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zwischendurch Pakete verlorengehen (erkennbar daran, daß doppelte ACK-Nachrichten eintreffen), wird das fehlende Paket erneut gesendet (retransm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Datenrate wird dann vermindert und steigt langsam wieder 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F775-DD9B-4D7E-8E71-B7CEBE8E92B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4BC9-5D50-45E3-B2FE-B271DF0B5C4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Anwendungen basieren auf TCP, nur wenige auf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-basierend sind NFS (Network File System) und D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209DC-6825-4479-B056-9E73FDC6D10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: Network File System, entwickelt von Su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 langsam, aber extrem stabil. Das Protokoll ist “stateless”, d.h. alle Status-information liegt nur auf dem Client. Der Server kann zwischendurch neu starten, ohne daß der Client dies normalerweise merk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 Version 2 kann auch TCP verwend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0729-45B9-4AAC-9D94-75EF32842E2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: Domain Name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fragen über UDP bei den Name Servern a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Server antworten ihrerseits per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eroute: Feststellen, wie meine Daten zum Empfänger komme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r aktuelles Bild, das nächste Paket kann schon einen anderen Weg neh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B629-E99C-431B-BDC4-EAD9D0B5B05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net: Terminal-Emulation,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H: Das “bessere Telnet”, verschlüss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TP: Datei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 Übertragungsprotokoll des WW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TP, POP3: Electronic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6D78-74FD-4A7E-90BB-16A59397378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D029E-3C69-4D63-82CC-3FD9948ACEC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ses Thema bildet einen besonderen Schwerpunkt morg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hier nur ein knapper Überbli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F270-A4D4-438A-BC7A-6A14189D22D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EED8-527D-4F96-AFCD-382FB344C5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ial of Service: Berechtigte Nutzer können nicht arb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spähen von Daten durch passives Mit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fälschen von Daten unterwe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ver Eingriff in Netzknoten (Rechner, Rou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Spoo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04DE-91F1-4260-8C0B-49B57A8777A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nial of Serv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od ping usw.: Überlasten eines Netzes oder Rech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mit zu großen Pak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-flo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egale Frag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uht meist auf Fehlern in der IP-Implementierung des angegriffene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0C1A-DA81-4A26-849F-292202945CB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sspäh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(Sniffer) im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Ethernet einf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r Fehleranalyse oder Spio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find, tcpdump, RMON-Pro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in WAN-Zwischenstationen, z.B. beim Internet-Prov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-Dateien, z.B. WWW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15879-2878-4D69-B7B6-A0878FFC6B4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inschleus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chleusen anderer Daten (unter falscher Identitä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Übernahme (hijacking) bestehender Verbindungen, z.B. juggerna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bei applikationsspezifischen Client-Server-Systemen, z.B. Datenban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8036-07BE-478E-A1D7-859D833E8C6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Spoof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zen der Quell-Adresse im IP-Header auf eine andere Adre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eine Adresse im angegriffenen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s für weitere Atta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Antwort mög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fache Protokolle, wie SMTP, funktionieren auch ohne Antwort (Antwort vorhersehbar) -&gt; E-Mail Sp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1B46A-9E08-485D-9B6B-B6F25834127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Richard Stevens, TCP/IP Illustrated, Addison-Wesley (besonders Vol.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af Kirch, Linux Network Administrators Guide, LDP bzw. O’Rei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glas Comer, Internetworking with TCP/IP, Prentice-H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F1C0-5139-4704-AFC9-0189224C579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ie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8E42-C814-4088-AC4E-F3F0AA1352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01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95360" y="5470560"/>
              <a:ext cx="4545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: Hardware, Gerätetre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59720" y="4273560"/>
            <a:ext cx="6039720" cy="901800"/>
            <a:chOff x="2259720" y="4273560"/>
            <a:chExt cx="6039720" cy="901800"/>
          </a:xfrm>
        </p:grpSpPr>
        <p:sp>
          <p:nvSpPr>
            <p:cNvPr id="104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59720" y="4479840"/>
              <a:ext cx="514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: Paketzustellung,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07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3489480"/>
              <a:ext cx="39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: Paketsich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61880" y="2292480"/>
            <a:ext cx="6037560" cy="901440"/>
            <a:chOff x="2261880" y="2292480"/>
            <a:chExt cx="6037560" cy="901440"/>
          </a:xfrm>
        </p:grpSpPr>
        <p:sp>
          <p:nvSpPr>
            <p:cNvPr id="110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1880" y="2575080"/>
              <a:ext cx="4533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: Benutzerproz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493B-711D-47A1-838B-E8A3895A29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282400" y="5264280"/>
            <a:ext cx="6017040" cy="901440"/>
            <a:chOff x="2282400" y="5264280"/>
            <a:chExt cx="6017040" cy="901440"/>
          </a:xfrm>
        </p:grpSpPr>
        <p:sp>
          <p:nvSpPr>
            <p:cNvPr id="114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2400" y="5470560"/>
              <a:ext cx="597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ink: Netzwerkkarte, Gerätetreiber (AR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92480" y="4273560"/>
            <a:ext cx="6006960" cy="901800"/>
            <a:chOff x="2292480" y="4273560"/>
            <a:chExt cx="6006960" cy="901800"/>
          </a:xfrm>
        </p:grpSpPr>
        <p:sp>
          <p:nvSpPr>
            <p:cNvPr id="117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8440" y="4479840"/>
              <a:ext cx="1411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20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6640" y="3489480"/>
              <a:ext cx="159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92480" y="2292480"/>
            <a:ext cx="6006960" cy="901440"/>
            <a:chOff x="2292480" y="2292480"/>
            <a:chExt cx="6006960" cy="901440"/>
          </a:xfrm>
        </p:grpSpPr>
        <p:sp>
          <p:nvSpPr>
            <p:cNvPr id="123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51520" y="2575080"/>
              <a:ext cx="179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26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98680" y="5470560"/>
              <a:ext cx="7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8480" y="5416560"/>
            <a:ext cx="1739880" cy="673200"/>
            <a:chOff x="4578480" y="5416560"/>
            <a:chExt cx="1739880" cy="673200"/>
          </a:xfrm>
        </p:grpSpPr>
        <p:sp>
          <p:nvSpPr>
            <p:cNvPr id="129" name=""/>
            <p:cNvSpPr/>
            <p:nvPr/>
          </p:nvSpPr>
          <p:spPr>
            <a:xfrm>
              <a:off x="4578480" y="5416560"/>
              <a:ext cx="17398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29960" y="5470560"/>
              <a:ext cx="142236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30960" y="5416560"/>
            <a:ext cx="1847520" cy="673200"/>
            <a:chOff x="6330960" y="5416560"/>
            <a:chExt cx="1847520" cy="673200"/>
          </a:xfrm>
        </p:grpSpPr>
        <p:sp>
          <p:nvSpPr>
            <p:cNvPr id="132" name=""/>
            <p:cNvSpPr/>
            <p:nvPr/>
          </p:nvSpPr>
          <p:spPr>
            <a:xfrm>
              <a:off x="6330960" y="5416560"/>
              <a:ext cx="181620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800" y="5470560"/>
              <a:ext cx="1786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ken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8480" y="4425840"/>
            <a:ext cx="3568680" cy="673200"/>
            <a:chOff x="4578480" y="4425840"/>
            <a:chExt cx="3568680" cy="673200"/>
          </a:xfrm>
        </p:grpSpPr>
        <p:sp>
          <p:nvSpPr>
            <p:cNvPr id="135" name=""/>
            <p:cNvSpPr/>
            <p:nvPr/>
          </p:nvSpPr>
          <p:spPr>
            <a:xfrm>
              <a:off x="4578480" y="442584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3320" y="4479840"/>
              <a:ext cx="4730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162920" y="4572000"/>
            <a:ext cx="8841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8480" y="3435480"/>
            <a:ext cx="1739880" cy="672840"/>
            <a:chOff x="4578480" y="3435480"/>
            <a:chExt cx="1739880" cy="672840"/>
          </a:xfrm>
        </p:grpSpPr>
        <p:sp>
          <p:nvSpPr>
            <p:cNvPr id="139" name=""/>
            <p:cNvSpPr/>
            <p:nvPr/>
          </p:nvSpPr>
          <p:spPr>
            <a:xfrm>
              <a:off x="45784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5760" y="3489480"/>
              <a:ext cx="73080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07280" y="3435480"/>
            <a:ext cx="1739880" cy="672840"/>
            <a:chOff x="6407280" y="3435480"/>
            <a:chExt cx="1739880" cy="672840"/>
          </a:xfrm>
        </p:grpSpPr>
        <p:sp>
          <p:nvSpPr>
            <p:cNvPr id="142" name=""/>
            <p:cNvSpPr/>
            <p:nvPr/>
          </p:nvSpPr>
          <p:spPr>
            <a:xfrm>
              <a:off x="64072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85840" y="3489480"/>
              <a:ext cx="814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8480" y="2444760"/>
            <a:ext cx="825480" cy="673200"/>
            <a:chOff x="4578480" y="2444760"/>
            <a:chExt cx="825480" cy="673200"/>
          </a:xfrm>
        </p:grpSpPr>
        <p:sp>
          <p:nvSpPr>
            <p:cNvPr id="145" name=""/>
            <p:cNvSpPr/>
            <p:nvPr/>
          </p:nvSpPr>
          <p:spPr>
            <a:xfrm>
              <a:off x="45784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5160" y="2498760"/>
              <a:ext cx="5875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492880" y="2444760"/>
            <a:ext cx="848160" cy="673200"/>
            <a:chOff x="5492880" y="2444760"/>
            <a:chExt cx="848160" cy="673200"/>
          </a:xfrm>
        </p:grpSpPr>
        <p:sp>
          <p:nvSpPr>
            <p:cNvPr id="148" name=""/>
            <p:cNvSpPr/>
            <p:nvPr/>
          </p:nvSpPr>
          <p:spPr>
            <a:xfrm>
              <a:off x="54928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0200" y="2498760"/>
              <a:ext cx="7808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07280" y="2444760"/>
            <a:ext cx="825480" cy="673200"/>
            <a:chOff x="6407280" y="2444760"/>
            <a:chExt cx="825480" cy="673200"/>
          </a:xfrm>
        </p:grpSpPr>
        <p:sp>
          <p:nvSpPr>
            <p:cNvPr id="151" name=""/>
            <p:cNvSpPr/>
            <p:nvPr/>
          </p:nvSpPr>
          <p:spPr>
            <a:xfrm>
              <a:off x="64072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89000" y="2498760"/>
              <a:ext cx="742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315200" y="2438280"/>
            <a:ext cx="878760" cy="673200"/>
            <a:chOff x="7315200" y="2438280"/>
            <a:chExt cx="878760" cy="673200"/>
          </a:xfrm>
        </p:grpSpPr>
        <p:sp>
          <p:nvSpPr>
            <p:cNvPr id="154" name=""/>
            <p:cNvSpPr/>
            <p:nvPr/>
          </p:nvSpPr>
          <p:spPr>
            <a:xfrm>
              <a:off x="7315200" y="2438280"/>
              <a:ext cx="8380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7200" y="2492280"/>
              <a:ext cx="80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638680"/>
            <a:ext cx="7239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64B6-CB3C-4826-B5BF-0D83825D13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LC (für W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0264D-503C-40F8-BD12-5AD35C0BCA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34Z</dcterms:created>
  <dc:creator>Jan H. Haul</dc:creator>
  <dc:description/>
  <dc:language>en-US</dc:language>
  <cp:lastModifiedBy>Hans-Joachim Haul</cp:lastModifiedBy>
  <cp:lastPrinted>1998-12-25T15:06:52Z</cp:lastPrinted>
  <dcterms:modified xsi:type="dcterms:W3CDTF">1998-12-25T15:07:46Z</dcterms:modified>
  <cp:revision>21</cp:revision>
  <dc:subject/>
  <dc:title>TCP/IP fuer Anfaenger</dc:title>
</cp:coreProperties>
</file>